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4703-E590-4117-95DA-4BD455EFF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7C3A-3E1C-49FD-9FB8-7B2425154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0D40-ED9F-4126-887E-FEB962120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D47C-9FEC-469F-BB8A-19B7F6AB4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75E8-4446-464F-9A53-415D4DE24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DDFA-092C-405B-97D9-A524C2921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4462-9CA3-453F-A93C-41835053E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7A0F-EB57-49E6-B38E-CC68A36B8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0583-9BF5-4CC6-9FA4-1E0EA6D74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216F-D0A3-4218-A1DD-B428B6BC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BCF0-B7C8-4E99-8297-48C78E38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DD99-56B9-46E1-9F72-2E4B0B517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0AFD5-241C-4E63-8108-B75C14C8C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lements are Substances made o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 to think ab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ll matter is made of elements, what elements are in toothpaste, hand sanitizer, bread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you will 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a substance to research (licorice, lipstick, fireworks,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substance in detail (1 paragrap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a prediction about what elements you think are in the sub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the substance and find out what elements are in it. Some of the elements may be listed as compounds so you may have to do a little detective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wiki page showing the elements in your subst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will link your paragraph and prediction to your wiki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2T19:37:09Z</dcterms:created>
  <dc:creator>sbowers</dc:creator>
  <dc:description/>
  <dc:language>en-US</dc:language>
  <cp:lastModifiedBy>Lisa</cp:lastModifiedBy>
  <dcterms:modified xsi:type="dcterms:W3CDTF">2011-11-14T02:43:37Z</dcterms:modified>
  <cp:revision>5</cp:revision>
  <dc:subject/>
  <dc:title>What Elements are Substances made of?</dc:title>
</cp:coreProperties>
</file>